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60C-93F1-469C-A5D7-5B1A8254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309-F781-44CC-8177-3829C70D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3E07-A8E5-4E9B-B7F0-6FDBF95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08884-E57E-4096-92E3-24F41F7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0A7A-CD21-4D90-AED8-396BA12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DDC93-AAE5-4A95-9247-4D9A324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DE67D-0921-46CC-BF9D-AEDDB7D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BF231-3EE3-44B6-9ACA-4C76F67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D5ECF-8B47-4C29-BA4B-AD7D02D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5FFA8-131E-4B07-830B-362DAF5B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672B-2633-4094-84D3-5BDC24EC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3811B4-5063-4126-A5A3-87497AAE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ACF-93F6-4836-ABC1-C1BD84E8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C9455-D517-4F2E-A2A0-1FDDE4B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9C8A1-A66D-46C1-A44E-6583B70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7759D-82BF-4D32-BC8C-501C7C6E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6ED7A-B8A8-4820-81FF-8D754C8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C1AD6-07A1-47A6-AF41-2D6529D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444849-79E0-48F9-B660-22E68AC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C6D7D-6A84-4AF8-9C55-BD3CB83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20D65-4894-47A7-B67E-864E694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428B5-CEE0-4DDB-A86E-BC6DD0C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D84ADD-1FE8-48F8-A02E-025D22D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32E-48B2-4F60-8BA2-A9A5B751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D03E06-A410-498F-909C-B6FB7576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2BD2-5487-4D22-8E1E-9E311F53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7C704-9804-49D3-8554-F46596E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298C5-95D5-4247-B962-43FB3C67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C74B9-41DA-4A1C-9DA6-628A7DC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C0B2-816C-4748-AC3D-DDF55E37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65666-6A84-45F4-9A1E-C7EA77F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0209-C989-4376-8D48-F8A9DBA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4943A-9E2D-438A-911A-4EFC042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6FFD-D5DA-4777-B56C-004DF6A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EAC2-0CDF-4FA8-A07D-15B73E18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602A-A427-448A-A986-11E70C8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C9993-E2A4-4642-B18A-8AC38ED8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FCF0A-AB01-437F-B683-5C776FEC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7520D-6FDC-4B2B-B690-79AA3D49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978D-1FB1-4693-884D-263A9B46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5A7B7-5B11-437B-A1CB-03E4EA85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65A34-B06C-47A6-8E44-2920111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55DB7-6D5D-4DD4-9A57-F773636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9CC58-A06A-4D94-A961-946E641E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8BF2C-CA3D-4B83-B5B6-FE030E8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10A3-E3DA-4518-ADF0-B60159AF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69B6B-0CFC-4803-AB07-B0FF312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6A85E-BB37-47DE-AE50-8BD5DD18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C6DFE-6938-49E6-95BF-379D35AC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CA817-78B0-4BF6-AB87-809A8B3B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F5C8E-B87E-4AB3-8F2A-EBAA08CD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129-42DD-4FCF-B67F-431207B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73C5-58B2-41FD-8A1D-26C25AF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7D15-E4FA-4726-A424-3E4702B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9F21-F2F9-4569-B6FD-29485D1B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6611-6792-4FC8-BC15-84C8D80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862-706A-44D3-9BE1-37FB53A5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E354-2EA8-4626-895B-DB1DF432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F66-E2AB-4997-B137-8F6D1B17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446F-6DF5-4B69-862B-DE7922A6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394-75B6-4901-87AE-E24F1B47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75A-4B38-4D5F-9390-9D939E40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FAF0-7650-4234-91C7-8BF3829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1A77-113D-4493-9D0C-DB6C8E38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E9F0-FEB8-4195-A660-05DB837F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3A29-3004-4B79-8758-A1037A42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B1F6-86BE-416E-B8A1-1B3EA4B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F6C-F0D0-4AD4-9327-2D1D613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D4AF-41A0-446B-88E2-ABDC207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73E0-DCF2-4B5E-AB34-A87B694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C3A5-77E2-44E9-8B49-DD355875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D669-6E24-4586-906D-9877955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8718-5658-4790-96E1-CD88253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4D4C-C634-4C6C-8A5A-66A3CDC0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22C6-4B16-4B15-BB5E-69354F81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69F4-B753-444A-A248-860E80C9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22E2-93D8-4463-B97C-B5509FE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35B4-CD06-46A5-8C2F-7004DB2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12D-D410-4632-B3CE-B2A5B3ED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61ED-0986-47DF-8779-7DED354B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6A4F-184E-48A2-9AB9-D17238B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E194-7FB5-4B22-935D-0C736989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C757-DC60-47CC-8729-E0500CC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7600-EA17-4CC6-A911-798D7CB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323B-7D05-4184-8AB8-8C7A13E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282E-82E4-42E6-90DB-3DD6C13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9654-5200-47AE-B511-410C29E4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292E1-24CA-4C20-B9B1-5B79AF06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D257A-C2D3-43B7-A221-40705560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331-754F-467D-89E1-61E55713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203CE-A563-49E3-A18B-EA694D22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AB5C4-EE31-4DF4-AAC2-CC3CA2F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70C60-5D07-4B4E-8177-D278ADC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9A3DE-29F1-41A7-B593-5DF3B6B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57A58-5B43-4ECA-88E7-9FDADBA9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76940-2ACC-4476-AB9D-4DDC589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6147E-34B3-4082-BFBE-A3DDFE9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27A4A-28E0-4676-A1D8-85C2D59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1AE1C-F957-47CA-9CF6-DFFA2C58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6BF98-E961-4FA3-A282-FA06DF00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829-BC09-410F-A609-0E56BEA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E629D-87EE-41CF-971D-D0691374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F7B9-FCE0-4903-99FD-5E68DB2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C69E-3DC5-4015-A706-9982024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D444-10B2-42C0-9C36-15F3A5C9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30ED-C36F-443F-A31D-583FC9D0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3C41-070F-4CC8-A3C1-9DC2127D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F4A7-7FF2-4023-8C56-AD70BCE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605A0-3C21-4F7B-A38D-1624FF5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4583-BFC9-4C35-93B2-160BA9F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6561-760E-4CDC-9D23-CB9566A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B8B-781D-4621-9A04-CA067BD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BB6E-48C3-4E3B-958E-E43999E4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6AEB-BF5C-4439-89DF-4244217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5193-9539-46F4-BE95-5A860E13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A523-4AD5-4D9E-8E45-ED668AF9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5C50-7525-4FA2-8579-76F7985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AB13-30F3-4AE4-84C8-E7534CA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4C32C-B050-49A4-BF81-2F61C7B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47B1-515F-4144-924F-12D5FBB8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4AF2-1504-4A09-829E-69694F17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68AB-2EBD-47E7-8981-F0DEFAE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58-7D10-4F34-8620-1FEB412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61F7-1DDD-47FB-9954-6E15366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C8EA7-E334-4575-9639-F1D47F4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11DD-5396-4DDD-B26C-D45A0F58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E67C-8B83-48EF-B640-7C9E150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EC3B-CF41-4658-84DE-819DEAC6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F519-BA6D-44F3-801D-40BAB08C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3BDB-F3A7-4EC4-ABAD-216A810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F553-1BEC-4647-B1C8-A3322CF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EC23-EFFC-486B-9F37-449AB37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10FCA-DC4C-4085-8AAB-77F2003C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34B-E32F-461B-97A5-7D85FDE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4965-6416-4DFF-8235-B3412A7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4DBFD-FB8D-459A-9717-95EBDBF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1333-3F36-4F37-BB06-5348F9E7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C8A6-6262-485C-BBB4-B748234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AC69B-D7A1-45C8-A9C7-B3C8FE64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FA2B-F382-4828-96C6-3F57830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D9EC-0F07-4F8B-8ACC-E894BE3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DBF0-2564-4466-B030-1FC95838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9F1B-8886-45F0-B8E0-70B1B309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7A0D2-F520-4B8C-8F87-EDC6EF01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C0A6-E9AA-4F91-AF86-911BEAFDAB6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58F-B5DB-4A5A-BCD3-CA6A0F8F13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4FBB-3A17-4B35-84C8-7C8A477082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B02-2695-4E57-8913-4E31188B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872-BD70-41E1-B2A3-15F49A22281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6EB0-F041-4A9A-9E22-E0FA39A6CD8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A36-D693-4032-9D00-222EF9FB87B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182E-BDF7-4F45-B1C1-A6E04E250E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F3E-4813-4B72-A0E0-DA8B240F6FF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ED8-478F-4B6D-B838-7109070F0A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CD2-A6D0-49B4-A477-8D1D2E5377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5EFD-AD9D-4347-98E5-0F8019AF4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0634-874A-4395-ADF8-5CC1A1B8EB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22B-9928-4C92-A5FA-EDEDE607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BDE1-5031-445F-A603-1BE345EFED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061-5544-4206-AA50-77ED54BC2D5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07E-1DF7-41B5-86F5-0F6822D369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C21-A5FA-49B7-B136-4EABEE5A54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26F-1E95-4667-9116-592D3D594BB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753-D782-4CC2-8755-F46BD10241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F77-1849-4A5A-B082-7D243274EF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BDFD-6131-4E31-98AD-B1F442EB683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9CE-FB3B-414A-A3D0-FD5B886138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3790-256C-4119-BB71-9B2B1A08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63F-FB47-47EA-ADD6-12CE6A9450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6AF69-E45A-400C-8DB0-7991C9D5C3BE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18190-0365-49E2-8984-F80B0F16DB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BA91F51-37DD-4973-B4B4-218D7CCD3707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48AD-30D3-41BA-91B4-0D54F299B7F8}" type="slidenum">
              <a:t>3</a:t>
            </a:fld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4B42F-7823-4215-80AC-CC75DB8D957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C5804AE-8112-4558-9075-897DDB70F70C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86CB3-B2C6-4DD0-A661-EE94FA0063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369ED4C-C6FC-4298-B0E2-38A484E8ECAF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B3AA6-96EF-4840-8E05-D220EFDAB0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7D718EB-95D1-44EC-8B49-BF238CB58177}" type="datetime1">
              <a:rPr lang="en-US"/>
              <a:t>07/30/26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