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32159"/>
        <c:axId val="68871335"/>
      </c:barChart>
      <c:catAx>
        <c:axId val="39832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71335"/>
        <c:crosses val="autoZero"/>
        <c:auto val="1"/>
        <c:lblAlgn val="ctr"/>
        <c:lblOffset val="100"/>
        <c:noMultiLvlLbl val="0"/>
      </c:catAx>
      <c:valAx>
        <c:axId val="68871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32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769-8F39-4594-B779-E1E7E2CB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297-5355-4774-9925-0D4889B3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DE3-C824-4AE8-88B1-15D7CF1D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578-F7DA-4921-8D76-28674A81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1A0-6C3C-4357-A302-F18BC3CD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06F-0947-4B80-825A-329BD885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99F-C223-4307-B322-A23537EC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6CC-2354-4A57-A8A3-AD5F1760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E7A-7F07-4B76-B6A7-E2B8116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B01-4871-4606-A73B-3193705E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1C8-621E-467C-92AA-E11D837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23F-0B31-477A-A9E7-78149A3E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0A46B-EB2E-432F-BE20-58B8AED4F8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