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58116"/>
        <c:axId val="62928288"/>
      </c:barChart>
      <c:catAx>
        <c:axId val="31958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8288"/>
        <c:crosses val="autoZero"/>
        <c:auto val="1"/>
        <c:lblAlgn val="ctr"/>
        <c:lblOffset val="100"/>
        <c:noMultiLvlLbl val="0"/>
      </c:catAx>
      <c:valAx>
        <c:axId val="62928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8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1C6-03FB-4758-AA7A-6CBDB75C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A6B-6300-4C07-BEAB-E409D60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E54-CC9E-465A-B74D-892141B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591-25F9-4F93-955B-CD1F5CC7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1EF-1D19-40A6-81A5-B8F9D23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37C-25B6-4B04-BDCF-4CFCC40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E9E-0645-49BA-860A-DB06263A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6B2-D9B1-48D2-9755-CEAD766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F9E-03A2-426A-A39B-F7FE3880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091-7A9A-46B4-A09C-7D86D507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5C9-DBD5-4A98-81FF-763968D8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A0F-E373-4988-8806-C9D7666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56221-8720-4912-8ABC-F212BDE5B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