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84979"/>
        <c:axId val="79198941"/>
      </c:barChart>
      <c:catAx>
        <c:axId val="81484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98941"/>
        <c:crosses val="autoZero"/>
        <c:auto val="1"/>
        <c:lblAlgn val="ctr"/>
        <c:lblOffset val="100"/>
        <c:noMultiLvlLbl val="0"/>
      </c:catAx>
      <c:valAx>
        <c:axId val="79198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84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34D-CCBC-44D6-84CF-617B3C33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0EC-C290-47DB-970C-3ACE94A5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9D1-A14D-4316-8B4D-6A5490B3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A2C-9750-41CC-A180-461AAA06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02E-22C2-40D7-83BE-F52DE8D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1B8-E2B9-4CDA-B785-FE591730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331-C4C2-4B01-B1A9-D55F6D7F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2EC-FA8C-4D37-805E-2E9A0B93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36F-E1DB-4CC5-8802-5B0E5B08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CB5-C330-42D1-9E55-C22709D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5C3-F179-4333-B100-BE3C6BE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63A-95EA-412A-A85E-F553036A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6178F-78B1-4287-9D31-9F270EC358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