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597380"/>
        <c:axId val="22870049"/>
      </c:barChart>
      <c:catAx>
        <c:axId val="695973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70049"/>
        <c:crosses val="autoZero"/>
        <c:auto val="1"/>
        <c:lblAlgn val="ctr"/>
        <c:lblOffset val="100"/>
        <c:noMultiLvlLbl val="0"/>
      </c:catAx>
      <c:valAx>
        <c:axId val="22870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973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E1A-7699-47E4-8F5B-FFE49088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5A4F-8E9D-4410-A46D-1434E99E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D568-5C18-4EEA-9D51-1B1FA8D4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E2B-4FEE-44B2-86BC-BCBF203F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2EF-733E-417A-A5BF-01B8BE18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E8A6-B4AB-4191-B184-7C355B76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56E1-73DE-4E21-BD45-70E4B3EE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4768-909D-4BE5-B878-996F65B7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CB8F-1B83-489A-A240-6B95AA74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9D6C-0ED5-435A-B794-1D91D511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39D-C0FA-48E8-B79D-886A9A9E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D0A5-DCAE-4ABF-B02B-D6AC6220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F9249-A0D7-4771-B55F-DE2FF335A9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