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03076"/>
        <c:axId val="75433558"/>
      </c:barChart>
      <c:catAx>
        <c:axId val="74503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33558"/>
        <c:crosses val="autoZero"/>
        <c:auto val="1"/>
        <c:lblAlgn val="ctr"/>
        <c:lblOffset val="100"/>
        <c:noMultiLvlLbl val="0"/>
      </c:catAx>
      <c:valAx>
        <c:axId val="75433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3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444-3DB5-4124-BDF2-E98BBDFF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182-BBD7-4BE5-94B3-3E622F28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29E-5DB2-4115-A4F2-2887215A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619-5F55-4016-9CC9-3CCE2D1F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0A4-90BA-49DB-BBB0-3C259A3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37B-47F5-41B9-B2C9-A7989B42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7CD-A74D-4DF2-B267-64238A49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898-BDAF-4DCB-B81C-CBDDE67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165-C3FC-4EF7-87F0-ED3714D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E8B-1624-4560-A329-783B2F9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49A-8CB4-41B2-914A-E6C460B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E60-C0CF-474C-8DF9-426099F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514C2-5F35-4DAF-B59C-E0CE36C4ED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