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553394"/>
        <c:axId val="56767573"/>
      </c:barChart>
      <c:catAx>
        <c:axId val="625533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67573"/>
        <c:crosses val="autoZero"/>
        <c:auto val="1"/>
        <c:lblAlgn val="ctr"/>
        <c:lblOffset val="100"/>
        <c:noMultiLvlLbl val="0"/>
      </c:catAx>
      <c:valAx>
        <c:axId val="567675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533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8CAD-E7E2-4DBC-81D4-77548A1D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08E2-F2AE-4F9C-924E-8EE7816E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FE5C-D658-438A-B1C5-407CC31A1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51E8-EF78-4F79-8BA9-F0D07D98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828B-C326-4CB4-A43B-856AC2CC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68E8-3E15-4CC5-8C4B-A8D4573F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68D3-189B-47C5-84B7-A20A4DEA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6C5E-199F-40E3-AEAF-B9409D53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ADA7-E2C4-46BA-AFD0-5D7E62E5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AFD5-F229-468A-81D1-607E2335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0D8A-7B15-4F1A-9E98-8AAFB7E5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1BF3-7014-4F2F-983F-40CD9615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502DE-1EE7-45D2-B0B3-899D813EF7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