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91919"/>
        <c:axId val="22145844"/>
      </c:barChart>
      <c:catAx>
        <c:axId val="36891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5844"/>
        <c:crosses val="autoZero"/>
        <c:auto val="1"/>
        <c:lblAlgn val="ctr"/>
        <c:lblOffset val="100"/>
        <c:noMultiLvlLbl val="0"/>
      </c:catAx>
      <c:valAx>
        <c:axId val="22145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1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208-E11D-4DB6-89DC-48610C2B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03B-1114-49C5-A659-EF94DE6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93F-2F72-4D4A-A14D-19DBA694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D26-9424-4716-A83D-C22765C3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405-48C2-442B-9BEE-7F6AEEF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897-BF45-4C00-8D6B-B6F254A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23A-8400-4C19-B962-655E71F6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2B4-8BFD-4833-9AB4-4FF774A9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53-DA77-4811-A224-2DC931FC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8FE-801C-4A07-AC5B-65B4671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47E-39B0-41B0-8491-838755B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C44-58E6-4056-BA29-7E7D1066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26BBC-A433-47A3-A7A0-46F04C4C3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