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08942"/>
        <c:axId val="32355048"/>
      </c:barChart>
      <c:catAx>
        <c:axId val="109089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55048"/>
        <c:crosses val="autoZero"/>
        <c:auto val="1"/>
        <c:lblAlgn val="ctr"/>
        <c:lblOffset val="100"/>
        <c:noMultiLvlLbl val="0"/>
      </c:catAx>
      <c:valAx>
        <c:axId val="323550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089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3B19-607B-402A-9880-725F926E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8A2F-C458-4BA0-A70B-F729C2A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B19-89A8-401B-ABE9-25E237B4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F97-16F2-4464-82FD-2A75381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CD2-3C69-4083-AA01-3A574E7C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1FB6-04BE-4B21-99A7-0917AE15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AD0-0B1C-4DCA-A170-808A9DD2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731A-3E74-4F93-83C3-CE8DB60E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76DB-9E39-49FC-AFC9-14C19CC1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51BC-DD3C-47C1-AA27-1C41E99A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A790-1AEC-43BB-A0B6-6A09E0CE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EF13-C77B-42EA-B76E-B9486769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6AF2B-E169-4661-8BE0-BD75454ACA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