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79990"/>
        <c:axId val="12971902"/>
      </c:barChart>
      <c:catAx>
        <c:axId val="99279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71902"/>
        <c:crosses val="autoZero"/>
        <c:auto val="1"/>
        <c:lblAlgn val="ctr"/>
        <c:lblOffset val="100"/>
        <c:noMultiLvlLbl val="0"/>
      </c:catAx>
      <c:valAx>
        <c:axId val="1297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79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EC6-B79B-42B7-B884-1AC3A791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CD1-E318-402C-904A-F73BCCB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21F-1D83-400E-A31D-8FBAD153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7B9-46BA-4926-B1DC-ED15AA59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65C-5971-436E-8ECF-45DC18EA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EFE-F2D3-49B1-BF3D-3E643542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56D-78AF-4224-9F3C-B56B0205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F53-FBE3-4A4B-B055-6C4427A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E61-6316-45F1-87B1-CAEF4E47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6C7-D991-485A-A7F6-6C76827A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C18-BF83-40A7-A3D4-F59631B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9C9-DFE2-4390-8832-9FED9C3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C45E3-B89C-45B6-A950-63249E63ED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