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07129"/>
        <c:axId val="90347612"/>
      </c:barChart>
      <c:catAx>
        <c:axId val="27607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47612"/>
        <c:crosses val="autoZero"/>
        <c:auto val="1"/>
        <c:lblAlgn val="ctr"/>
        <c:lblOffset val="100"/>
        <c:noMultiLvlLbl val="0"/>
      </c:catAx>
      <c:valAx>
        <c:axId val="90347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07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8B6-4AF2-4AC7-9BBE-C61808B6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B02-34A2-4054-8E31-53347667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B4B-6317-428F-8991-1493BAE2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C1B8-6BE6-4E17-9377-98F2E880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134-CD59-439E-9B93-979192B8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A38F-E6C5-453C-A78A-76097665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7E7-79C2-48B9-AD7B-7D70CB9B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CE5-E817-4B06-9D46-1C936485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2CE-83CD-436D-9941-4428A236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B6F-8CE0-4A1B-A57B-2DFB4061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0A3-0439-49D1-A234-02D98CBF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3DC-1F76-46BB-B0D3-13125200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E4529-7875-4CC7-9F65-127C6274E6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