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2029"/>
        <c:axId val="85430066"/>
      </c:barChart>
      <c:catAx>
        <c:axId val="2452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0066"/>
        <c:crosses val="autoZero"/>
        <c:auto val="1"/>
        <c:lblAlgn val="ctr"/>
        <c:lblOffset val="100"/>
        <c:noMultiLvlLbl val="0"/>
      </c:catAx>
      <c:valAx>
        <c:axId val="85430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2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84F-CD4F-4403-A412-4F0FB045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88-7079-4261-9EF5-707A57D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77F-67D9-4E8C-B224-918DADD7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061-6438-4479-82B2-1208E268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A59-3011-450D-9B35-EEFF16F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E90-E8E0-4160-820F-BDA17306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0CB-472D-4C6E-946D-3EF598F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127-19D7-4A5D-BC00-64459A03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E8F-700B-4489-8F3B-9364FEA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E5A-E8F0-41CF-B1EF-BAD8E4BE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9EC-B186-477D-B2E5-449062F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693-6A9D-434A-8EDF-8911376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0FEAE-F1D0-4666-B62B-2AF038CD8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