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3476934"/>
        <c:axId val="79003753"/>
      </c:barChart>
      <c:catAx>
        <c:axId val="7347693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003753"/>
        <c:crosses val="autoZero"/>
        <c:auto val="1"/>
        <c:lblAlgn val="ctr"/>
        <c:lblOffset val="100"/>
        <c:noMultiLvlLbl val="0"/>
      </c:catAx>
      <c:valAx>
        <c:axId val="7900375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47693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4C8F-9D3F-4797-813D-17E68951B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9CC7-581E-4F49-8C1B-D16F3AE57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CDDC-089F-435C-B1A0-BDDBA1BAE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2ADE-52B4-4E40-8208-E68B37988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818B-44ED-4E9C-8483-F9D116EF6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518F-2D81-4BE2-B0A6-11148DBE8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2068-CA44-4538-BEAD-02F96F01A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7CAC-B4C9-469B-BE40-4000D7A66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4FFE-9CEE-472A-BF6A-601036918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061C-D238-4D0C-82A0-EFC4061B9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1A0C-B76E-4DBE-85E8-69AB2B259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46A2-3875-4B3E-85FE-5DD591989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97DAE9-B2BB-4743-BCF5-1192554A2E9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