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4406"/>
        <c:axId val="95809823"/>
      </c:barChart>
      <c:catAx>
        <c:axId val="9704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9823"/>
        <c:crosses val="autoZero"/>
        <c:auto val="1"/>
        <c:lblAlgn val="ctr"/>
        <c:lblOffset val="100"/>
        <c:noMultiLvlLbl val="0"/>
      </c:catAx>
      <c:valAx>
        <c:axId val="95809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4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8D6-F7E1-4813-B7B4-060DD36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AE8-C6AF-4515-ABAC-D6C545F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583-27AD-4E83-A486-5271F03F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9BB-3577-455E-8FDF-EB8C467E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BE8-6705-420F-B1DE-73740D8E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4E2-03F2-44B0-8066-F45252A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6D9-78C4-4971-94B5-61262CE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BD0-0892-4399-B7D0-B6E789D0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BCA-FDFC-4F7B-B50C-859C732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136-607D-43BB-AA1A-22D10F4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813-61CE-40FB-B7EF-63A923A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A34-7CA7-4A6C-A7A2-3C3D326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495D-1E77-4763-B19A-91DFE270A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