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96815"/>
        <c:axId val="24743577"/>
      </c:barChart>
      <c:catAx>
        <c:axId val="731968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43577"/>
        <c:crosses val="autoZero"/>
        <c:auto val="1"/>
        <c:lblAlgn val="ctr"/>
        <c:lblOffset val="100"/>
        <c:noMultiLvlLbl val="0"/>
      </c:catAx>
      <c:valAx>
        <c:axId val="247435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968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9A9-CFA4-4ED7-BA6B-46EF0634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DBF9-A984-4031-9AA1-99AFA2E0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D89F-2D3C-4CAD-A2B7-F82234D6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5A2A-C357-45D1-81AA-788978DE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86D5-2857-4C6A-9A11-BEF7A692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9B78-0435-4ECE-859B-92C04826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523-A39F-4DBB-8B75-B73C69EC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6B97-4470-4D95-BAB8-4D19DF5E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C2E-E2DE-47D5-AF68-9D2FA5A4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075B-95B7-4154-9184-21CF660D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03B3-FB10-436A-A1D7-42C67C00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DA6-B085-4C1D-ABB4-B4409C4B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62B3F-A928-49CD-A0E0-B20D7826AE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