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485785"/>
        <c:axId val="3063719"/>
      </c:barChart>
      <c:catAx>
        <c:axId val="364857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3719"/>
        <c:crosses val="autoZero"/>
        <c:auto val="1"/>
        <c:lblAlgn val="ctr"/>
        <c:lblOffset val="100"/>
        <c:noMultiLvlLbl val="0"/>
      </c:catAx>
      <c:valAx>
        <c:axId val="30637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857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B9BA-51FF-477E-B5FE-F2B1C962F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90C5-1D40-4621-AAD6-B0035D64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DB14-BE5D-4F0B-B884-C115E668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6D98-2D3E-49B8-82FA-67BF071D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D528-C85C-4F43-ACFB-0FFA52FE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98B1-215B-4EA4-8F8E-486DADDE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24B7-C6A8-4C89-814A-46F196F5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0448-7F32-4E77-A49C-7F69CFBA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B3D7-4BAA-4F6A-A594-8475C24C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DFA0-1E79-4F4F-9720-827930F5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46D9-F85C-4C32-8EC1-57EEE611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5F01-A722-4511-A76C-9D79A359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FACAD-2E40-417B-871E-CA7D2D661A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