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523352"/>
        <c:axId val="96990408"/>
      </c:barChart>
      <c:catAx>
        <c:axId val="535233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90408"/>
        <c:crosses val="autoZero"/>
        <c:auto val="1"/>
        <c:lblAlgn val="ctr"/>
        <c:lblOffset val="100"/>
        <c:noMultiLvlLbl val="0"/>
      </c:catAx>
      <c:valAx>
        <c:axId val="969904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5233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FA90-4AFF-4046-A6AC-5481A12A1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AC64-2A0C-49EC-914F-8F173B25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F44A-B86E-4C51-964E-D0F057DF3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527D-46AD-4933-9602-3988B7781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24B4-FA15-4076-A2AB-608197F0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05CE-284F-40D0-85EB-DD51CDD7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615C-E26A-4206-AD31-99B68C09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43F7-5CA3-4720-A27D-3187E986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322E-B791-4565-BE57-7764178A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A683-3018-4151-A3D3-40D3D43A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FDFA-AD65-473E-A7AA-343E80EE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7A43-7BDE-448A-9C47-58FE6109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706E6-AC76-4970-8E66-D08B6FB3B2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