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628297"/>
        <c:axId val="33222874"/>
      </c:barChart>
      <c:catAx>
        <c:axId val="286282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22874"/>
        <c:crosses val="autoZero"/>
        <c:auto val="1"/>
        <c:lblAlgn val="ctr"/>
        <c:lblOffset val="100"/>
        <c:noMultiLvlLbl val="0"/>
      </c:catAx>
      <c:valAx>
        <c:axId val="332228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282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8059-5957-4556-B469-4CCA1DA9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251A-C9B8-4D60-BC73-06091EB0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037F-5FCF-48D5-B45F-C286F9B2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940A-3597-40AB-B3C2-FBC86AD10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ECC8-F252-48FE-91D3-B4A34AE5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78E9-995F-4666-9D3D-A1C93DB1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AB35-B8D6-4ACB-BBDA-E9BAFCE1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B018-ED9B-49CB-A0B9-5E4239F9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91C7-F154-4FCC-AF62-CFB953C9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95F5-7464-43C2-920F-41A5C3D5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2089-D7F4-4A81-979C-3EDEE598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8C94-CC39-49A9-A095-DD65100F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CF26A-DB7F-4679-9FFA-626B2ECEAF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