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18807"/>
        <c:axId val="92251891"/>
      </c:barChart>
      <c:catAx>
        <c:axId val="11918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51891"/>
        <c:crosses val="autoZero"/>
        <c:auto val="1"/>
        <c:lblAlgn val="ctr"/>
        <c:lblOffset val="100"/>
        <c:noMultiLvlLbl val="0"/>
      </c:catAx>
      <c:valAx>
        <c:axId val="922518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18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A78-07A7-47F6-BAC8-7C6D3559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42DD-C83A-4EEB-9C6D-29EC99C1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03B6-7B49-4FF5-9A94-92C3AA01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14E-A2A0-4001-A71E-FBCB969A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19A-19CC-42F0-8D94-0D6EF73D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0427-9518-4CF9-9958-F22E5656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4F6C-CBE1-4BE6-9A76-7C4A16F4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7959-86BA-4538-86B7-64F68026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892-D211-476D-ADC0-7B48E4B1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3966-CAFB-4123-8DDF-1A94A6E5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7F6-A1A0-4C61-9499-F0D619D3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1F0-414F-4880-AEC9-EDF5B96F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7C3C1-EFFF-4D3E-A1C7-9B24FD9CDF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