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25471"/>
        <c:axId val="19291964"/>
      </c:barChart>
      <c:catAx>
        <c:axId val="96254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291964"/>
        <c:crosses val="autoZero"/>
        <c:auto val="1"/>
        <c:lblAlgn val="ctr"/>
        <c:lblOffset val="100"/>
        <c:noMultiLvlLbl val="0"/>
      </c:catAx>
      <c:valAx>
        <c:axId val="192919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254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BF6E-CBB9-4E33-99A8-78D3CC979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05B7-F872-4C16-8E70-183D1D657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1186-1D96-4FDE-9FAB-C2EB50F1B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6D5B-385A-4EBA-96C0-E30CFDE07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75A7-99DC-4BA9-AF65-8A93AB621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F048-AF91-472D-93FA-EDC9C8589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DC18-765B-4210-8FAD-E72B3410A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2F8D-C362-463B-843D-DA201CF21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6E4A-7E67-491B-99A5-301DA304A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74FF-62E4-45B3-A5B0-EB7117CC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2740-97A7-45F4-881B-F53E4BBA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6A70-2618-4FA5-BEA9-772F5E23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76C58B-CDEF-4F3E-AA74-FEC0CABD879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