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66935"/>
        <c:axId val="83495042"/>
      </c:barChart>
      <c:catAx>
        <c:axId val="93466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95042"/>
        <c:crosses val="autoZero"/>
        <c:auto val="1"/>
        <c:lblAlgn val="ctr"/>
        <c:lblOffset val="100"/>
        <c:noMultiLvlLbl val="0"/>
      </c:catAx>
      <c:valAx>
        <c:axId val="83495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66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585-746A-42FE-8FA6-29D4F6E8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3BE-C25B-4B64-9467-70B8C31E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93A-AE58-4440-8F3F-28AE4385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BB5-7FB2-44A8-980E-B322B9CF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BC7-49DA-4FCF-907D-066C03BB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884-01A3-403A-99EA-82AC5999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C69-0C4E-47A6-85B7-723F2199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D3A-2469-4EAD-8E27-6F009EF0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2CE-EE37-417A-A916-2A72131E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EF4-4A42-4CD7-A644-E113942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E0F-70C0-4404-BA2F-A5082C4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831-AA95-429F-8A8E-9490AB43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05E92-2FB5-49D4-95EE-ECCF07C91D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