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1479"/>
        <c:axId val="13743070"/>
      </c:barChart>
      <c:catAx>
        <c:axId val="8321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43070"/>
        <c:crosses val="autoZero"/>
        <c:auto val="1"/>
        <c:lblAlgn val="ctr"/>
        <c:lblOffset val="100"/>
        <c:noMultiLvlLbl val="0"/>
      </c:catAx>
      <c:valAx>
        <c:axId val="13743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1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0D4-091E-4901-AE49-131C4419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11B-F74A-4A61-8AAD-D896329C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1DF-C2C7-49C3-958F-3EE487CC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FED-5AFF-4549-B2BB-823A0F4E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90F-9A7B-4364-9BBD-A60405A0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941-E33A-4320-B2BA-18B9D972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7D2-0F6D-4040-A9A3-5A712204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E18-842A-4F1C-A387-09666382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F51-A5B7-465E-A353-2258EFEA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564-B499-41ED-8906-66BEAA0C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964-0E61-4C00-970E-7FB03733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327-4847-42E3-9444-366DB657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F9101-A45F-4E9B-96E9-2A3341151C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