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21491B-6A1D-41C1-9D6E-D63A5CDBF204}" type="datetime">
              <a:rPr b="0" lang="en-US" sz="1200" spc="-1" strike="noStrike">
                <a:solidFill>
                  <a:srgbClr val="000000"/>
                </a:solidFill>
                <a:latin typeface="Comic Sans MS"/>
              </a:rPr>
              <a:t>07/31/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9674CB-B28E-4104-97A2-A912D8129C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BC7E2E-ED80-42A3-963B-9D410F2216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173D81-A3B6-4CA2-8D63-8124BA2D2B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494355-11A2-40A3-826A-A981A39B25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D06D37-49AF-4F84-8B19-F5186CBE18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7214DE-BB81-422C-BFEF-F4FD493100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392698-E2E4-40D4-AD73-D89AA7C918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CA063D-FCDA-44F8-B940-6310E1F0C1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CB9AC5-3801-4821-9223-6FCA2BE78A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8AECCC-C893-4A72-B65A-6335518FBD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E955A6-F8A9-4464-918B-B0887AFD6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650908-5038-41E9-A809-645B62EA3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13572-3627-40E8-818B-2FAF6A5ED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2055CA-C791-436E-8DEE-20D20DA02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C98B87-837E-4C9D-8CC9-E61222FD99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5F94E2-9FC2-48E5-9009-F1F92484E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E69600-DFF3-4DF9-8615-489DF2FF34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49C402-84E0-45FE-A90B-AB0E37DAE5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D3B20E-44B3-4DF1-9FB3-1AEE9580C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2F4A5F-DBD1-4070-8A1D-8D0A27F6E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99CFF3-95F6-4B0F-9FFA-5D89E0A306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E23E7A-17B9-456E-90EA-D0D2327E8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976740-C0A7-42A8-A6D3-1AB6E9A57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DBB1C0-62BB-4D44-9580-28B58C8B0C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450165-60E8-4384-9702-3D3536BE74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B1E93E-961F-496E-AC93-6BBC5415C5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B653F4-0B4E-428D-9CBD-BB9C7B05EB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D50B0-CB63-423D-8729-B4708CFFCA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24D1AD-A7AA-4595-B93A-1E51B1EE9B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B1205F-3065-4F96-BCBF-F3DD3E36D8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14CD2-1E9D-4CCA-ABFC-0A84375B3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156AC-460E-4495-984E-BFE1F7A48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731E6-3689-436E-9A90-93B62B8E6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0F26B-7A12-4181-9099-630902D4C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BAB8-263D-49A9-8E54-72455975130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89F6-6070-4D81-9583-951EEA50EE4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2109EA5-E96C-4A08-AE37-9D5005828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268AA8-F749-4F35-86C3-50ADA1A9BCA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400864-8001-4AC7-BEA9-8980A5F48CD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F3A2C9-B37B-47E9-BB2E-48E0FEA998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C538B6-6229-4846-93DD-1432B284806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B14836-F384-473E-9193-3C5A21808F77}"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376259-1150-4C19-A225-02F3593E101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AEEA3B-2A8C-4675-9B06-39DF1AC860F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48ABC0-2F10-4069-90FD-E44A77D862C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D986CE-3689-405E-9A22-AB304186669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E19541-E884-4B76-B01F-58998B6F6C7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B1F2B-103A-4F28-9237-8D2D2FD22AB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D93A5D-1E86-49AF-A802-C1CBE5FAB560}"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424919-6F26-4EBB-A2BE-188EE3D3DC3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C2B402-8586-45F6-91FD-B7E426EF7E3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94CC92-34DC-408F-BE50-23DDAE7C652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D98784-3B86-43C9-950A-26CFF387A40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B25220-A7CA-461C-A4E0-9B592F21B2D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CCB0A8-CA46-4E87-AE43-010BBCC6CB5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CD06766-F7D4-4CDA-B635-1015D1797AA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48B3F3-08D8-41D2-B087-865968E4676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13DFE8-8B9E-40A1-B5B8-92A2762EC40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1242A9-DE98-4BD6-9CC1-DC9E5F45825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B68591-627E-48A3-ADDE-2AD935118E7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808E48-7333-4117-B3E3-399C01141C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CFD9BE-F26E-42A7-862A-DFF0923A0F1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0A0F61-1493-47CD-919C-FBB5A858D9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7D1F4A-8F0F-4044-864E-8D04F5295CE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F473586-9C19-4DFD-817B-366B73B6D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2BD319-B013-4709-B2EB-4838ECB6C4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9DD5B7-370D-471F-95D5-EA9D2A1F0F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FFA0D3-D1A4-443E-921E-2099C3B64DB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36AA0A-F0AB-495D-B706-D6696DA6D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30262D-CF15-4964-AB90-590D04A7F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2D73A7-3780-40B5-B562-DB2D21ECE9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25244C-71C1-4628-9B39-AD962DAA576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425052-D928-4784-ACC5-28ACD0AE1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000F60-813B-4E80-AEDF-1502DC3C1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780D9D-4CF5-466E-87B8-44E41A57A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433C23-4726-4B9A-B120-7724EDD3133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A597DA-DFB0-4990-B5C2-F65290C32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923B4F-594A-45F2-92BB-45F0DF8D21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51BCC0-B943-4A2F-A706-3FC43B92F2A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77108D-98AE-43D9-B4A3-7D7BB75617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2D43CD-2262-4E05-97A1-E1841EB248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8EFC3A-D1F7-425E-82E6-A3413A3A6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DE9537-0F96-4777-8159-D8E1949249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FF58F0-4295-4250-A4BF-6666BE375B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A11314-F5CE-44B8-B257-3BC1F906D6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D8B4A2-8FEA-4E97-AD52-49AE9250F53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F6C7BF-BC04-476A-8B12-7F7172C9C8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14FEF6-1BF2-4D91-B3DC-7F9AB29DDD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AFE12C-2724-42FB-AF67-11257B1A38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AB6079-7410-4851-87E3-76C0894ED8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DE3947-E984-481D-B48B-6D63A6547AF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3AF398-970E-4FD0-BB86-DDA1DDFC81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2F27C-A729-453A-B57F-B495710130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A76115-98F9-495A-8CF6-4C77DF301AC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A085CF-CCDD-4254-AD1B-1CAEE077E1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D10BB7-292E-4378-A24A-0B7674B6FE9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CE2836-C28C-4D57-88AB-B56D1FC0E5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B350AB-24EE-439F-8737-304E079206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BD89F7-45D8-4105-8B63-B466280A9D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27960C-EABC-441A-A81F-C450F145408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B183AD-AC0E-4D54-B3DB-13768204EA8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946F7B-0028-4D9F-B43E-8C9A9A5ADC5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CA35A6-C826-4051-83C2-878E59E46DB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A436B1-1B24-412C-88CB-910F6B46DE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27E67A-B2D2-48C4-95BA-AD87C62C2D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2878B3-52A5-44FD-9666-82128F7B22B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FF85E3-22A8-4F9B-87C4-78D43767CD5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90E7CA-0613-4AB8-8DB7-0816E0EFC9A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904812-CFF9-4002-BF34-1B1123813FC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0707D8-0A05-4F69-AED1-AE3199D9F05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34C123-8EBA-4C07-AF58-9B9ACBCC9C2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CDF8E0-8DE9-4465-9974-38AEB4419A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2BFCF6-2CF9-4B4B-8E22-9E95109050D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FFDAD0-758D-460E-B71C-64FFF5B059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6DA48A-D5E8-4CC3-AB03-6FB79FF1FF6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85ED46-1913-4A19-8DC5-BE94DFB1F58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E8DD62-2604-4DCA-AFAD-EB040CD9477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974774-4D84-4177-A6E8-3A5BDC0E924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0CDD85-6584-4B61-AA0E-EF3C12D211B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295899-EEA1-47C2-87F2-2D03C9DA5F2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762E3A-49FF-4803-BE7D-8A0F7307480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0A05B4-0EBD-41C1-8B3C-328F6930D45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193B50-AC5D-4EE7-8D44-9B02561A0BD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6FB23A-8078-4CE3-AE70-C1F42D5AF3C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5D0E66-F99F-4603-ADDA-EADAA0C4E42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20B8CD-7290-4D4C-A040-066EEA156E2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58DD02-6A39-49BD-A0C3-1B4B0092558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93477E-F54B-45D4-989A-8D092CCBA64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411CD5-11AB-495D-A943-6AC24CE2EC9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5D658E-C9E0-4B93-A954-B93C4776067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0282D9-A3C8-491D-8765-B558E68B5E1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CE62B2-2FF5-4BE9-B525-E8E826CCDFA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20656-3C22-4A44-B0F5-246154F5316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4C5AA8F-97C1-47E2-835C-C5CB1D36948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9517BE-F6DB-4735-A90E-7AE83818451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848908-2D7E-424E-8B44-4D7A830A173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FBD27C-EE69-4BE8-9FEC-3D5B6D13D2E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042D15-E50D-4705-A131-20FEAC2517F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7CF316-CBE4-4219-BF10-E4E46CC8503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1FE178-3B0A-4F3A-B24D-A9A3F42FCD1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362557-B014-44E1-B2A8-49D8AA29746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32C9C5-7AF8-402E-AD87-682547BFE1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F624DC-41E0-4BD8-95D1-A31FE5FEBE3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2BFBFD-45EB-42C1-A823-67332713A25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258D52-1318-4589-BBFA-0A08AA75A56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4E6368F-FEC0-4215-BC9F-2891834BD30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9E0ADD-6FB2-44D3-9CEB-46DFC37B6D1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6996C5-E210-4436-A4AC-294361D56A7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5D5CAE-E743-4E13-8A00-A2EEE9F9E51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BB0DAA-2A93-4636-92BB-5E108FAACB8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29F564-877A-4032-A76F-8A21CD1299C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A42F72-A8E6-4D62-8F55-86C4760C859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9C2ABC-623D-4E48-97D6-109FEBD9741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12FD7B-3522-4EC4-B064-37377385989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FF8086-32A3-44DE-A3D7-B3E06FC1EFB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C8E39C-31BA-4C3C-9167-44455F14A5C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D24F6-4C7C-49DA-9137-0DCBD0AE4E7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